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EFE-78EC-4654-87ED-FA947964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CE2-B385-44BF-BFF4-B2723F66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B91-9CCE-44E4-AF77-0FA74150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7B7-3D91-422A-92ED-5C2CECAA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AE52-9776-441B-9D72-631B1081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EBF9-0009-45A2-B3C4-6AD6E92A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DEA4-1602-4D26-932E-8A2BA811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C3BC-C807-4099-A3F6-47ECCA94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B74D-AF75-4178-95E4-94C16B26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1809-7964-4348-A4C1-B663C5F3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2FB2-F270-48E1-96F3-21389A3D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94CD-7E52-47C5-8CFA-840FB092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8ED5-47A6-4049-A688-46BC5A70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D21F-B143-44FB-80E9-33074156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1FBC-D2C5-4719-9A1B-882D1C9F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E5BB-E08F-4F73-9B53-7A4743D9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D3B4-ECFB-47CD-BEBF-4E411203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6EC-ECED-46EE-87BC-490880C8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E7D-5D6A-4E99-84D7-E5109DB3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662-5F2B-4151-A3B6-B0A20227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9C8-FF84-4313-953E-5513FC55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519-F6EB-4EEE-9706-92DCAA48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8EE-8BB6-4FB2-A492-66397BE4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641-5DC4-4933-8642-C8CAFA67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7D34-6694-4CC8-9F76-288B7303DA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05E3-AC59-4B25-AC13-9B5A9B157BB7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Повторение и обобщение по теме: «Простые вещества».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8  класс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лицея № 149 Гизатуллина Л.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опрос В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Дайте следующие понятия:  молярная масса, молярный объем газа, количество вещ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Напишите три формулы для определения количества вещ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Укажите единицы измерения для n, M, V, N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Вопросы С.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) Определите молярную массу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) Сколько молей вещества содержится в 100 г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) Определите объем 44,8 л. кислород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7) Сколько молекул содержится  в 0,1 моль меди (Сu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опрос Д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Укажите, что тяжелее 4 л.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 или 4 л. угарного газа (СО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Arial"/>
              </a:rPr>
              <a:t>Повторить п.13-16, придумать задачу по теме, решить задачи - 4 а, 5 а на стр.84.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отработать умение производить расчет с использованием понятия молярная масса, молярный объем газа, количество вещества, повторить свойства и строение металлов и неметал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Металлом являе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а) калий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селен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ера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водород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К металлам относятся элементы ряда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С, О, F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	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Ag, Zn, С</a:t>
                      </a:r>
                      <a:r>
                        <a:rPr b="1" lang="en-US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О, S, Se;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CI, Br, I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 К неметаллам относи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серебро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 хлор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кальций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хром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К металлам не относятся элементы ряда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N, Si, С;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Ва, Br, С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в) Na, Zn, Сu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S, Fe, А1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0920" y="1268280"/>
          <a:ext cx="7386480" cy="52117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2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Особенности строения атомов металлов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имеют на внешнем электронном уровне меньшее число электронов и большо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склонны к отдаче электронов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меют на внешнем электронном уровне большее число электронов и меньши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способны принимать электроны.</a:t>
                      </a: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Особенности строения атомов неметаллов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имеют на внешнем электронном уровне меньшее число электронов и большо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проявляют способность к отдаче электронов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20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имеют на внешнем электронном уровне большее число электронов и меньший атомный радиус;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проявляют способность принимать электроны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63520" y="1125360"/>
          <a:ext cx="7386480" cy="51260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1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Химическая связь в молекуле азота (N</a:t>
                      </a: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)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металлическая;  б) ионна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ковалентная полярна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ковалентная неполярная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Для  магния характерна следующая разновидность химической связи: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металлическая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ковалентная полярная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онная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ковалентная неполярная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125360"/>
          <a:ext cx="7710480" cy="5505480"/>
        </p:xfrm>
        <a:graphic>
          <a:graphicData uri="http://schemas.openxmlformats.org/drawingml/2006/table">
            <a:tbl>
              <a:tblPr/>
              <a:tblGrid>
                <a:gridCol w="4272120"/>
                <a:gridCol w="3438360"/>
              </a:tblGrid>
              <a:tr h="58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ллотропией называется: 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явление, в результате которого из одних веществ образу другие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явление, при котором новых веществ не образуется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уществование простых и сложных веществ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способность атомов одного химического элемента образовать несколько простых веществ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акие из предложенных пар неявляются аллотропными модификациями: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белый и красный фосфор;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кислород и озон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в) кремнезем и кварц;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алмаз и графит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Для неметалла иода (I</a:t>
                      </a:r>
                      <a:r>
                        <a:rPr b="0" lang="ru-RU" sz="9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) характерно свойство: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текучесть;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твердост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пластичность;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летучесть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В самородном состоянии в природе встречае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фтор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фосфор;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ера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) марганец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63520" y="1598760"/>
          <a:ext cx="7386480" cy="47005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7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Лучшим проводником электричества среди данных металлов являю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цинк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 мед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ртут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железо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В электротехнике для производства ламп накаливания используют металлическую нить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из вольфрама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из алюмини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з золота;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из серебр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23:39:57Z</dcterms:created>
  <dc:creator>лилия</dc:creator>
  <dc:description/>
  <dc:language>en-US</dc:language>
  <cp:lastModifiedBy>Ray</cp:lastModifiedBy>
  <dcterms:modified xsi:type="dcterms:W3CDTF">2011-11-19T05:18:00Z</dcterms:modified>
  <cp:revision>9</cp:revision>
  <dc:subject/>
  <dc:title>«Повторение и обобщение по теме: «Простые вещества». 8  класс</dc:title>
</cp:coreProperties>
</file>